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F2F83-2B1A-432E-BD8E-195343F0D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7549B-B2EA-488C-8780-22387CB09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9B740-260B-4638-BD64-EB3E8685A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57C81-148D-43FD-9FB1-48885AAF3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AC3C9-167F-4B67-A230-A8C886EB6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69EE6-E96B-4B7B-A1DD-61CD32B94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069D5-CD84-413A-B25E-56726BAD3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7107F-CDDC-4752-A13B-ED9C4A16C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88E93-0498-41C3-B6BE-09494E72E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66C9D-10D3-4138-8E76-161093784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C3213-94CE-4EFB-9F58-8ABACD62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D75BB-E2A7-4552-8A50-03D78D8F6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6B100-B8B2-4EFF-847C-6A6527BC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C4AC1-CB07-4DCC-A447-0813CCFF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CB96F-6FD5-4FAC-9B33-732357105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D765D-C0CA-4BF0-9CE8-9F1C05D5D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D2CAB-BED4-4E28-BC1B-2F8B14DAF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C7792-2139-4DD4-B8AE-D59894F5F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157F5-0A4E-4C0A-B789-359037FE7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9623D-58DF-489F-A474-110538D5C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CAD2A-D815-408F-A58F-606990483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1B684-C61D-4A9C-9C66-0213C9FE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9319D-2601-4B88-BBF3-FD6F3339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AC685-9A75-4EAD-85B0-1F1D54AD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BA54D-709A-404F-9F04-24809DB68B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AC938-08FB-43EF-9997-E2C9105E83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DFGVX Help Present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DFGVX Cipher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ipher involves to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ubstit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ed by a transposi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bstitution involves a 6 x 6 square where the rows and columns are labeled by the letters ADFGV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letters were selected because they are easy to distinguish as Morse cod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ransposition is a simple column transposition based on a key 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F28CA-CDFE-4E8C-ACC2-CF7DAA0B68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132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 letters and 10 digits are entered into a 6 x 6 matrix using a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86400" y="2971800"/>
            <a:ext cx="27867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D  F  G  V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01680" y="3048120"/>
            <a:ext cx="25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Keyword:  when2go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38200" y="350532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  h  e  n  2 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800600" y="3657600"/>
            <a:ext cx="329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Enter the keyword and then</a:t>
            </a:r>
            <a:br>
              <a:rPr sz="1800"/>
            </a:b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fill in the rest of the matrix</a:t>
            </a:r>
            <a:br>
              <a:rPr sz="1800"/>
            </a:b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using the unused letters and</a:t>
            </a:r>
            <a:br>
              <a:rPr sz="1800"/>
            </a:b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numbers in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44320" y="407052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  9  3  a  b 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44320" y="460368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  f  i  j  k  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42520" y="515952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  p  q  r  s  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33160" y="571500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  v  x  y  z  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31360" y="625644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  4  5  6  7  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6953400" y="6272280"/>
            <a:ext cx="100944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F5427-16B4-4E0B-8552-00764F9BC96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20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6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30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3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47400" y="1774440"/>
            <a:ext cx="7615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letter and number in the plaintext is replaced by the letters on the column and row headings of the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986400" y="2971800"/>
            <a:ext cx="2970360" cy="3660120"/>
            <a:chOff x="986400" y="2971800"/>
            <a:chExt cx="2970360" cy="3660120"/>
          </a:xfrm>
        </p:grpSpPr>
        <p:sp>
          <p:nvSpPr>
            <p:cNvPr id="130" name=""/>
            <p:cNvSpPr/>
            <p:nvPr/>
          </p:nvSpPr>
          <p:spPr>
            <a:xfrm>
              <a:off x="986400" y="2971800"/>
              <a:ext cx="2786760" cy="36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  D  F  G  V  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438200" y="3505320"/>
              <a:ext cx="23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w  h  e  n  2  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444320" y="4070520"/>
              <a:ext cx="251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O  9  3  a  b  c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444320" y="4603680"/>
              <a:ext cx="251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  f  i  j  k  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442520" y="5159520"/>
              <a:ext cx="251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m  p  q  r  s  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433160" y="5715000"/>
              <a:ext cx="251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u  v  x  y  z  0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431360" y="6256440"/>
              <a:ext cx="251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  4  5  6  7  8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4383720" y="4219560"/>
            <a:ext cx="408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laintext:   n   e   x   t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iphertext:   AG  AF  VF  G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6975360" y="6219720"/>
            <a:ext cx="1009800" cy="4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2A5C9-BFBB-43C8-AC15-D4B88972F1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485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a column transposition with a keyword, the ciphertext is written in rows and then read in columns in a specified ord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11120" y="4322880"/>
            <a:ext cx="1689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1 2 3 4 5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A F A G G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X G F X D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V A A D X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F G D G X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A F G A V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70240" y="517860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57920" y="4707000"/>
            <a:ext cx="2558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ad down columns in 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 – 6 - 1- 2 – 5 -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27480" y="4884840"/>
            <a:ext cx="251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AFADG VXXGG AXVFA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FGAGF GDXXV GXD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7083360" y="612468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C425F-94EB-4085-B93B-1CDC64B0C56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umn 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880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key for a column transposition is the number of columns and the order in which they are selected both of which are determined by a keywor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, the keyword “general” defines a column transposition with 7 columns because it has 7 lett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define the order of columns assign each letter a number based on its order in the alphab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719880" y="541188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Courier New"/>
              </a:rPr>
              <a:t>g e n e r a 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460560" y="6014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308120" y="6014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412960" y="6014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55520" y="6014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032240" y="6014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841280" y="6014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08320" y="60339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361800" y="6064200"/>
            <a:ext cx="1009800" cy="4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B685F-54DE-44E7-8FE6-023E45A1768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3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3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3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3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3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3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33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ADFGVX cipher from the cipher me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727360" y="2962440"/>
            <a:ext cx="5691240" cy="36954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756480" y="3432240"/>
            <a:ext cx="1238040" cy="696960"/>
          </a:xfrm>
          <a:prstGeom prst="wedgeRoundRectCallout">
            <a:avLst>
              <a:gd name="adj1" fmla="val -42819"/>
              <a:gd name="adj2" fmla="val 106037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keyword sets up the 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232760" y="4452840"/>
            <a:ext cx="1384200" cy="851040"/>
          </a:xfrm>
          <a:prstGeom prst="wedgeRoundRectCallout">
            <a:avLst>
              <a:gd name="adj1" fmla="val -43578"/>
              <a:gd name="adj2" fmla="val 95893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keyword sets up column 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193680" y="620568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FD31C-7ECF-47F0-A72A-B506CDDA871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2-06-19T01:54:56Z</dcterms:modified>
  <cp:revision>40</cp:revision>
  <dc:subject/>
  <dc:title>CAP Cryptographic Analysis Program</dc:title>
</cp:coreProperties>
</file>